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4D4-CC99-4C34-A61C-7EA88337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5E8-24E9-4F5B-B5A9-ACCF005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FF00-D05A-4B00-A84D-1D316D1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7985B-C1EC-41A3-9F6C-D731BA7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7D8A-ED20-411A-9AC4-5B3BDED7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EE219-2920-4B5A-A0F3-EB83D45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99D7B-8CE2-46BD-8048-DF0109A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5EDDC-A050-412D-BADA-370D316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70AD-A3CF-4DF5-B5FE-FF2E886B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158C-7023-4BBD-A0F4-6AD1B5FE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AFED-EB91-43CF-A572-966CD29D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37C71-4CCA-4198-A659-546B7133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9CD-EADC-4764-AE61-BCC860E6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66425-1250-4DE4-B96D-F4973E2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3F284-9457-4F6B-AC8B-2DDEC44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A9848-9B0E-43A2-A155-6E2A110D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7E2BF-BDCD-4B44-9196-4D8DBF90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AD3F1-CD2B-4E68-99AC-DAB0791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51CBF-9DCF-479F-90A5-F138010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0F3C-7304-424C-B46C-F92E585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BE1CC-F133-43FB-B99A-CEF0CD2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3D13D-0675-465B-9BBE-369A7B7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82B80-A948-441C-BC41-44A4B537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4E8-4E19-4EE5-86B8-A82225DF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B215-0237-47D6-8914-DEA02753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7FBD0-18F3-4B3C-AFC8-6F8E0F2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848E-DAD0-4E14-BE76-6BCF553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329A0-7597-421F-B619-9894EA7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51123-0114-48A1-8EA9-16BD870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F22BE-EC47-42D1-AB2E-7CAA80BF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FF434-70EA-4DFB-A2AB-C2CEF4E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0CE48-B930-44D2-8132-38BC33D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B273F-DB4B-416B-AF74-0913D4F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E03E8-ED7F-4A42-9181-7C6137D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0C66-996C-495E-A8C0-4B3055B4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5201E-520A-406F-97AA-13DAD01D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0AD3-D2C0-4596-91E1-A1329FDB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9AA68-BC33-4D71-B6AE-57C041EB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F09E-3845-42E9-895B-E0E53904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67500-2ED7-4AFB-8157-51B91B3D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31A7-5342-434A-9E91-964F51C3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67355-6656-4401-8A60-BCCE446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FF7E-EB22-41C9-A4EB-BD17ABA3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9692-FD30-4807-89FC-AC5D1C7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6B56-5EEE-4896-8B8B-CB114B2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5474-F697-43F2-A4D0-9E039DD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B76B3-7521-47FC-82B0-D32D194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71E67-CE5A-457A-B14E-9BE60B6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3CD8-DAAB-401C-96F1-0D8C54B4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090F5-C766-4547-8E95-7D0FF4F9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7076-F9A6-41C6-826D-6D25C01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172B4-E8C4-45DD-8AA9-6DD01087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25B08-83E9-4935-A497-11A3F80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5E8BD-0D25-442E-BC32-6D1FD06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E0D1A-4354-478F-9A1F-F5D3861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4D865-3BBD-444F-AEAB-44C41C5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7F63-D5F4-4B4C-9B78-46EF77A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AB764-199E-4387-9A6A-BE22727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0D004-F608-423B-B90B-C071A3D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BE80-9224-4A2D-A40A-D8E1FD2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2F657-4A03-45F7-A4A3-E03342F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2839F-BF83-403C-9CAC-42DFA65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95893-955C-4C90-A75F-9ED7115B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D3F2-A747-4AC3-BA29-1B18A3B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ECA8F-E2AC-4952-A270-FEBF8338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6A300-81B6-4E8A-9212-AC9975D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14ECB-F3D6-4CD6-B911-827DE8F9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DB88-1542-4208-B0B5-E4D15669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45257-08D9-4812-91ED-E7BE534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03FF9-89C1-468F-938A-B12D4E1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BBE83-ACC5-4644-BD65-86D634D2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D8B24-734B-4C55-BA9C-435D55E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E99C7-85C2-49CD-B829-B6C2F7B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68E5D-D29C-49FA-BB1C-DF15EF7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B937D-972E-4B74-95C3-0211A623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4D44B-6615-49FC-93DD-B747CEAE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10CEE-A0C0-4144-95E5-4D9CB5FF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1184B-E09F-430A-AE14-3F397A3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E2A-6CA8-4DBC-9B36-152EDD9D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8C80C-2440-456B-8A43-095DEBD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B1DEE-0E22-4271-A5B6-A99B8E15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CDC09-5BDC-47B4-AFCD-4771F4F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672EF-ADDB-46EB-9C3D-C38FD9E0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2D833-5FEE-48CB-9355-E3A40E2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6FE1B-8259-402A-948A-D06343B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7E19E-2FB3-4DAC-8EEC-3F4E6E6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975CB-ACF0-490B-BC70-22B914C3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ED4E1-075C-400E-ABBA-C48F6BA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CFFC5-538C-445D-A924-42E7530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9918-2481-4A44-88BE-F9E6447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D0B46-6CFF-462F-8270-721BFD67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D0FAF-9AC5-45CA-BA31-8F9CE6AB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55E05-31CD-4071-9D30-5A45CF8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4EFE7-7FF1-4746-AE04-A831DFC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4837C-3989-4C22-8CB3-C6D0352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CC0A9-AA6B-47CE-8B44-3CF12034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C5475-5BC8-4BF2-9D3B-BFC8DD67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56A21-BEDE-44A7-93F4-746B526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D99DD-F84D-4E81-A6FC-3C799FA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3E6E0-BBB6-475F-A990-F9FD23C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137F-E123-4AA7-940B-988062E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F8AC6-E0BD-4FE4-B35F-13DBCE20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1C203-6844-4033-894D-CFA4C5A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F1BD0-7392-4FB5-A6F3-FC798555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AB9E0-E6C6-4ADF-8F0A-5CF9FE51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C81DE-579F-48BF-BA97-D427878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8F057-564A-4304-AD45-5FF6F7CF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1E8D1-6A12-4515-8AA9-FA2A43CE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2159A-6B75-47DD-90B9-0ED874F5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82F9D-913C-49DD-9998-F5E8EF0B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4363B-D8B3-468D-8489-AAEC011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164-6055-4D62-81BE-8FA1BD9B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42A7-110E-4B59-89CB-A48F6E6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9C968-1C2E-4AF8-A6AF-FEBE7EE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BD1F6-C4B4-473F-9096-88420672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82A48-7A58-45B7-8C75-9E47886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A45B1-BE50-4159-A573-4EBA8FD0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D46B7-2530-4B89-BA70-06FC6096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B55D2A-1EFC-414F-9891-88A295B5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251D1-ECA9-47EE-9634-13BBECD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AFE05-37AF-4656-B0A7-1CF6F3F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3A5A6-09EC-435C-9087-BD47FF2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1D39D-FA17-4569-97F0-36CC872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2124-64BB-4271-991C-2780249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B40A8-50EF-4516-8980-1B716F1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1D0F7-0103-4EB2-A725-98EC24B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CB098-07C8-4486-BD4A-AED3228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795A1-D3F7-4688-A31F-FE9A521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B3C05-F5E3-4F96-9963-257944A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8B1DD-3C82-4317-AD0E-64D73936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F3EE5-FE88-435E-81B4-E6BCCBB1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C1D23-FA01-4FC6-A022-27D66F8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4E6F0B-D7CC-4BEB-AD0B-3FEFC2F5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55187-957D-4A0F-84D6-630C54C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37F-EEC5-45A6-AAF5-59FFB24B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D0E1D-A955-4884-BEE7-0F5895F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33141-05B7-4DAE-B386-5AE72C9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E06C1-CCA0-4678-846C-A49D5EE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BC469-61F7-4B5E-8AFB-1D4EBD2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A3939-6F87-43F8-AC23-FEE3646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1EB8E-F138-43E4-BD1B-FCC7D72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D90C8-696A-4103-91BB-2F43B625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DE7D9-CB3C-4C9A-9773-B20C3A02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F864F-6A32-42F4-A792-2921B0C3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30741-DEB7-4B11-938B-C6386674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3CDE-266B-4324-B1A0-ABC74F1D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65C07-6C41-4D99-B2DE-576B0785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5AD58-C551-4554-8F36-DCA31A3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E2530-1011-402F-AA60-ED90F6C9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67F1B-67A6-49FD-A84D-623B4ED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A74EA-C244-44BB-AB80-6A3F2385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A5C63-0793-408A-88A1-4729561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EC1BF-9FD8-4E6B-AE0C-57A37B0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160BA-1F4A-4BA3-81C0-6D4512A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B8C47-C9EC-4A76-BE19-A73D97A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3DB01-7683-4F76-A476-E4177C1E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0990-0735-4C10-A4EF-9FAC13AD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1D092-C7E9-4AB0-963F-08BD1D8D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E54A2-7FAE-4507-BE41-FDD728EF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66E76-B9ED-4E6F-9C11-B4AF6243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BBFA3-0662-4CBB-979C-598DE9EF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B7727-4BE2-4454-A5B8-809BCF8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D5E85-2091-43E8-BA64-A47A8FE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D3D12-E391-4CBF-928C-53BEABA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131FE-C963-4E0D-9BFA-C807F50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38D48-4C7B-4D4E-A4E2-4D2A33F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7586C-011D-44C2-97BC-A318934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FBCF3-869F-4136-8573-7E82D4E2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63591-80A4-4677-9CED-B8A46C33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D390A1-A7B2-4D53-AD2A-14BC038A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705-D1DC-4A59-905E-5EFE33D1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9E94-2FD4-4A72-94B5-A97479B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7A12-7B75-4215-94E8-4BB1574A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4AA1-D9F8-4D5B-8FE6-49C0889E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00-61F4-4294-932A-D6CDB75E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A5EB-33C5-4EAF-84BB-0638755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4826-A16B-4AA7-9970-8004DFF0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FD27-894F-43F3-9ECA-9A9B2DD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9E32-77AA-4249-A3F6-C920CC8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D9FC-A229-4E16-942F-E9820C0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6E96-DAAF-41B5-8AEE-7A438E1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CA86-F92C-49ED-8C77-4B14EE8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918F-58FE-439D-84CF-4AF3DFC4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90A5-4C2F-4B23-ACCB-32BFB271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F5C2-F572-4BA3-84E0-6281D3AB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893-C6C3-40C0-9745-49B0D1D4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D06C-F33E-45A7-B0E6-27D56DE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80D1-809F-4BD5-81E3-3F90E5C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CA50-94C5-42E7-8E99-0B952979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0A20-DA2F-4040-B306-A0B2DFF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5B01-9487-4C24-89A9-564634C2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BAB3-D5B7-42A2-A13B-418A55C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422D-A9BD-4AE7-B955-432165F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A456-9EB8-4486-9749-C8342CE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CB8F-89BD-4C3B-8987-46EA678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F05C-593B-46E0-8188-E9E3D54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E37-792E-4040-B92D-161F041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C5F5-1E37-495B-BA30-324C4ABB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6349-BC19-4023-9A28-F897FCF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DB97-0562-434B-89CA-375EFB5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A80F-A711-4FE1-9A8B-BCC02B27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CDA4-C09C-418D-A88E-3811FD5D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69003-5B3B-4DF6-B280-FAFF5668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861A-1D22-4354-82B9-4B1CDE7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7797-3F28-4431-B3D1-D5A3A88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C456-0804-4220-9285-8EEDE73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DADC-78BE-421B-A764-FBEABFE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E72-E0CA-40DE-BA2D-CBADB973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5E8E-FE93-45B0-9C81-8B055F0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5BC3B-364B-433E-A2A2-871519C8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74706-53FB-4C11-84C5-9111205A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FE8EE-C543-4B24-B5B0-BBEF53FA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BB4A-44FE-40A0-A57F-4810C86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5B9A1-1E60-4331-89FA-062BB02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CDD2-8F31-4F1F-8E91-2B85F83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7D66-D809-43DF-838C-6BF82DA2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3139-4E8D-495B-A6A9-CB9D141A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254A-6967-4099-9569-CE34948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D73-35F6-4A27-9C15-3ED37A7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70F8-DD36-42EB-B7EB-E816231E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ADD50-09F7-4738-8647-67D06CD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4C7D-7920-40A6-AC2D-050C29D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A4AB-2162-4C92-921B-9AE9FCB1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4BED-8C6C-4B91-A33A-55FB994C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2967-F4CA-41AD-B8D8-C547458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C893-F268-44A1-949F-DE4A4FC7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E7BC4-8503-4452-BEA0-D8E2019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6407-0728-4127-8546-998F37CB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F0066-413F-43B4-8D75-B9B47AA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631-161A-45A1-9CAC-2AC95BD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CB355-D8B0-45AC-AF60-DCF81741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AFDE0-E741-4D9C-A024-0480AF6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A544-528A-4B0B-8C71-704F5E1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0955-7C8B-4B73-B480-B229F2C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0699-1FC2-455D-A100-F00BB15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CAAC1-EA83-4E2D-B905-074D737B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6BE0-6B75-4103-9B64-0950F8E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729E0-46A1-4237-9E56-5D45B583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F7EB-C21E-40BE-99F0-663BAC9A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4B95-2E12-47F8-BBE8-480679F4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C4FA-7920-44CD-AF0E-BA4A7EECB5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CB0-576D-4D1E-88F3-CAB9A89E7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5F8-52E6-4C12-A1AF-FD779940D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C96D-A6D4-4ECE-AD89-59CADF889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94F-D588-4C00-BB0F-A6DABEC10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B0D-DA7F-4BEA-AC39-2FF7CB039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1F1-CC38-4B35-AD30-ADBE06BC03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588-F8A5-4BC3-9910-1797EAE76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D4D5-E248-4751-8C07-BBBF10A552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58B7-E175-41EE-90D6-6D92D14D3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D83-8190-483C-B767-89A7AB141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667-8D17-4075-86B2-4865ABB8C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C516-BE5A-492B-A000-296F37850A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661D-E0C0-458F-96CF-15360895A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B33C-B10B-45AD-BE70-FAD1F6B67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F418-E060-4FA5-8B9A-6C847E01B2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257-047C-4925-AC3A-509304BEB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70F-8CE3-4544-AEE0-149365399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4A71-E924-413F-BCB2-2F283C7F9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287-A436-4003-B794-B0C212260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65E-1CEC-4A0E-8EC2-2EC2F41BD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469E-44A4-4B54-B205-6987C8702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445-D219-41DC-A633-FE4A8B210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72B-8BEC-4993-BE67-CDDA0D89C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8097-DAD9-444D-AF04-C895CAC30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BD4-65C5-45BC-B372-F2F6209EB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AD3-FDC4-4BC3-9896-0D4F04068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8CCF-34E7-45C0-AFB7-902C69335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7C5B-2B95-48AA-92F1-2F640E3A0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5DBD-DA67-483D-A6C6-FBEAC9F61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3CC7-CB7B-460C-8BBD-60A73C56D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A6AE-A23C-46C6-AE69-FCA415048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507-F196-47A0-B45A-FCB7D3546B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7B9-98A1-432F-A42D-13F185591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012-63A5-426F-987D-BF765B90A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09D-660F-4FF6-9CA4-FC8C4952C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8DA-E66B-480C-9D3F-8CF715FD1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112-8F6B-4AF4-89E2-6F803F2DFB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5C00-DA84-42D1-AB1B-043F0FB9B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5400" y="2604960"/>
            <a:ext cx="89532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3313" descr=""/>
          <p:cNvPicPr/>
          <p:nvPr/>
        </p:nvPicPr>
        <p:blipFill>
          <a:blip r:embed="rId1"/>
          <a:stretch/>
        </p:blipFill>
        <p:spPr>
          <a:xfrm>
            <a:off x="619200" y="1112760"/>
            <a:ext cx="79056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图片 14337" descr=""/>
          <p:cNvPicPr/>
          <p:nvPr/>
        </p:nvPicPr>
        <p:blipFill>
          <a:blip r:embed="rId1"/>
          <a:stretch/>
        </p:blipFill>
        <p:spPr>
          <a:xfrm>
            <a:off x="1090440" y="2747880"/>
            <a:ext cx="6963120" cy="1362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3780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5003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622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6"/>
          <a:stretch/>
        </p:blipFill>
        <p:spPr>
          <a:xfrm>
            <a:off x="7308720" y="3645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5361" descr=""/>
          <p:cNvPicPr/>
          <p:nvPr/>
        </p:nvPicPr>
        <p:blipFill>
          <a:blip r:embed="rId1"/>
          <a:stretch/>
        </p:blipFill>
        <p:spPr>
          <a:xfrm>
            <a:off x="1247760" y="1166760"/>
            <a:ext cx="6648480" cy="5286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2"/>
          <a:stretch/>
        </p:blipFill>
        <p:spPr>
          <a:xfrm>
            <a:off x="2050920" y="2075040"/>
            <a:ext cx="3961080" cy="3841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1908000" y="3068640"/>
            <a:ext cx="3961080" cy="3841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4"/>
          <a:stretch/>
        </p:blipFill>
        <p:spPr>
          <a:xfrm>
            <a:off x="1835280" y="4048200"/>
            <a:ext cx="3960720" cy="384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5"/>
          <a:stretch/>
        </p:blipFill>
        <p:spPr>
          <a:xfrm>
            <a:off x="1979640" y="5027760"/>
            <a:ext cx="4392720" cy="384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6"/>
          <a:stretch/>
        </p:blipFill>
        <p:spPr>
          <a:xfrm>
            <a:off x="1979640" y="6021360"/>
            <a:ext cx="4392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图片 16386" descr=""/>
          <p:cNvPicPr/>
          <p:nvPr/>
        </p:nvPicPr>
        <p:blipFill>
          <a:blip r:embed="rId1"/>
          <a:stretch/>
        </p:blipFill>
        <p:spPr>
          <a:xfrm>
            <a:off x="123840" y="1319040"/>
            <a:ext cx="88963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7" name="图片 17409" descr=""/>
          <p:cNvPicPr/>
          <p:nvPr/>
        </p:nvPicPr>
        <p:blipFill>
          <a:blip r:embed="rId1"/>
          <a:stretch/>
        </p:blipFill>
        <p:spPr>
          <a:xfrm>
            <a:off x="38160" y="2224080"/>
            <a:ext cx="9067680" cy="24098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324000" y="2738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6"/>
          <a:stretch/>
        </p:blipFill>
        <p:spPr>
          <a:xfrm>
            <a:off x="324000" y="42354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62400" cy="5713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2531" descr=""/>
          <p:cNvPicPr/>
          <p:nvPr/>
        </p:nvPicPr>
        <p:blipFill>
          <a:blip r:embed="rId2"/>
          <a:stretch/>
        </p:blipFill>
        <p:spPr>
          <a:xfrm>
            <a:off x="109440" y="2075040"/>
            <a:ext cx="8925120" cy="3514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00000" y="2687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8269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900000" y="51577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163440" y="2565360"/>
            <a:ext cx="8585280" cy="2639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684360" y="3443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68436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684360" y="4379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669960" y="4869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1" name="组合 20485"/>
          <p:cNvGrpSpPr/>
          <p:nvPr/>
        </p:nvGrpSpPr>
        <p:grpSpPr>
          <a:xfrm>
            <a:off x="34920" y="1846440"/>
            <a:ext cx="9001080" cy="2950560"/>
            <a:chOff x="34920" y="1846440"/>
            <a:chExt cx="9001080" cy="2950560"/>
          </a:xfrm>
        </p:grpSpPr>
        <p:pic>
          <p:nvPicPr>
            <p:cNvPr id="1042" name="图片 20483" descr=""/>
            <p:cNvPicPr/>
            <p:nvPr/>
          </p:nvPicPr>
          <p:blipFill>
            <a:blip r:embed="rId1"/>
            <a:stretch/>
          </p:blipFill>
          <p:spPr>
            <a:xfrm>
              <a:off x="34920" y="1846440"/>
              <a:ext cx="873432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图片 20484" descr=""/>
            <p:cNvPicPr/>
            <p:nvPr/>
          </p:nvPicPr>
          <p:blipFill>
            <a:blip r:embed="rId2"/>
            <a:stretch/>
          </p:blipFill>
          <p:spPr>
            <a:xfrm>
              <a:off x="503280" y="3913200"/>
              <a:ext cx="853272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84360" y="2867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11280" y="3400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684360" y="4437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1" name="组合 8196"/>
          <p:cNvGrpSpPr/>
          <p:nvPr/>
        </p:nvGrpSpPr>
        <p:grpSpPr>
          <a:xfrm>
            <a:off x="812880" y="476280"/>
            <a:ext cx="7219800" cy="6353280"/>
            <a:chOff x="812880" y="476280"/>
            <a:chExt cx="7219800" cy="6353280"/>
          </a:xfrm>
        </p:grpSpPr>
        <p:pic>
          <p:nvPicPr>
            <p:cNvPr id="1052" name="图片 8193" descr=""/>
            <p:cNvPicPr/>
            <p:nvPr/>
          </p:nvPicPr>
          <p:blipFill>
            <a:blip r:embed="rId1"/>
            <a:stretch/>
          </p:blipFill>
          <p:spPr>
            <a:xfrm>
              <a:off x="812880" y="1068480"/>
              <a:ext cx="7219800" cy="56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图片 8194" descr=""/>
            <p:cNvPicPr/>
            <p:nvPr/>
          </p:nvPicPr>
          <p:blipFill>
            <a:blip r:embed="rId2"/>
            <a:stretch/>
          </p:blipFill>
          <p:spPr>
            <a:xfrm>
              <a:off x="3059280" y="476280"/>
              <a:ext cx="22669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" descr=""/>
            <p:cNvPicPr/>
            <p:nvPr/>
          </p:nvPicPr>
          <p:blipFill>
            <a:blip r:embed="rId3"/>
            <a:stretch/>
          </p:blipFill>
          <p:spPr>
            <a:xfrm>
              <a:off x="2629080" y="1528920"/>
              <a:ext cx="3382920" cy="530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5" name="直接连接符 8197"/>
          <p:cNvSpPr/>
          <p:nvPr/>
        </p:nvSpPr>
        <p:spPr>
          <a:xfrm>
            <a:off x="2627280" y="1930320"/>
            <a:ext cx="3457440" cy="7779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8198"/>
          <p:cNvSpPr/>
          <p:nvPr/>
        </p:nvSpPr>
        <p:spPr>
          <a:xfrm flipV="1">
            <a:off x="2627280" y="1700280"/>
            <a:ext cx="345744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8199"/>
          <p:cNvSpPr/>
          <p:nvPr/>
        </p:nvSpPr>
        <p:spPr>
          <a:xfrm>
            <a:off x="2671920" y="4105440"/>
            <a:ext cx="335412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8200"/>
          <p:cNvSpPr/>
          <p:nvPr/>
        </p:nvSpPr>
        <p:spPr>
          <a:xfrm>
            <a:off x="2641680" y="5186520"/>
            <a:ext cx="335448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8201"/>
          <p:cNvSpPr/>
          <p:nvPr/>
        </p:nvSpPr>
        <p:spPr>
          <a:xfrm flipV="1">
            <a:off x="2685960" y="3860640"/>
            <a:ext cx="3340080" cy="2276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9219" descr=""/>
          <p:cNvPicPr/>
          <p:nvPr/>
        </p:nvPicPr>
        <p:blipFill>
          <a:blip r:embed="rId1"/>
          <a:stretch/>
        </p:blipFill>
        <p:spPr>
          <a:xfrm>
            <a:off x="33480" y="2033640"/>
            <a:ext cx="9077040" cy="2790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641520" y="2492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611280" y="29811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0" name="组合 10243"/>
          <p:cNvGrpSpPr/>
          <p:nvPr/>
        </p:nvGrpSpPr>
        <p:grpSpPr>
          <a:xfrm>
            <a:off x="34920" y="981000"/>
            <a:ext cx="8996400" cy="5300640"/>
            <a:chOff x="34920" y="981000"/>
            <a:chExt cx="8996400" cy="5300640"/>
          </a:xfrm>
        </p:grpSpPr>
        <p:pic>
          <p:nvPicPr>
            <p:cNvPr id="1071" name="图片 10241" descr=""/>
            <p:cNvPicPr/>
            <p:nvPr/>
          </p:nvPicPr>
          <p:blipFill>
            <a:blip r:embed="rId1"/>
            <a:stretch/>
          </p:blipFill>
          <p:spPr>
            <a:xfrm>
              <a:off x="34920" y="981000"/>
              <a:ext cx="8906040" cy="18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图片 10242" descr=""/>
            <p:cNvPicPr/>
            <p:nvPr/>
          </p:nvPicPr>
          <p:blipFill>
            <a:blip r:embed="rId2"/>
            <a:stretch/>
          </p:blipFill>
          <p:spPr>
            <a:xfrm>
              <a:off x="250920" y="3068640"/>
              <a:ext cx="8780400" cy="321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7"/>
          <a:stretch/>
        </p:blipFill>
        <p:spPr>
          <a:xfrm>
            <a:off x="468360" y="544500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80" name="组合 12291"/>
          <p:cNvGrpSpPr/>
          <p:nvPr/>
        </p:nvGrpSpPr>
        <p:grpSpPr>
          <a:xfrm>
            <a:off x="179280" y="1628640"/>
            <a:ext cx="7947000" cy="4024080"/>
            <a:chOff x="179280" y="1628640"/>
            <a:chExt cx="7947000" cy="4024080"/>
          </a:xfrm>
        </p:grpSpPr>
        <p:pic>
          <p:nvPicPr>
            <p:cNvPr id="1081" name="图片 12289" descr=""/>
            <p:cNvPicPr/>
            <p:nvPr/>
          </p:nvPicPr>
          <p:blipFill>
            <a:blip r:embed="rId1"/>
            <a:stretch/>
          </p:blipFill>
          <p:spPr>
            <a:xfrm>
              <a:off x="179280" y="1628640"/>
              <a:ext cx="464832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图片 12290" descr=""/>
            <p:cNvPicPr/>
            <p:nvPr/>
          </p:nvPicPr>
          <p:blipFill>
            <a:blip r:embed="rId2"/>
            <a:stretch/>
          </p:blipFill>
          <p:spPr>
            <a:xfrm>
              <a:off x="6659640" y="2204640"/>
              <a:ext cx="1466640" cy="344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88" name="组合 11267"/>
          <p:cNvGrpSpPr/>
          <p:nvPr/>
        </p:nvGrpSpPr>
        <p:grpSpPr>
          <a:xfrm>
            <a:off x="468360" y="2205000"/>
            <a:ext cx="7423200" cy="2376360"/>
            <a:chOff x="468360" y="2205000"/>
            <a:chExt cx="7423200" cy="2376360"/>
          </a:xfrm>
        </p:grpSpPr>
        <p:pic>
          <p:nvPicPr>
            <p:cNvPr id="1089" name="图片 11265" descr="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514332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图片 11266" descr=""/>
            <p:cNvPicPr/>
            <p:nvPr/>
          </p:nvPicPr>
          <p:blipFill>
            <a:blip r:embed="rId2"/>
            <a:stretch/>
          </p:blipFill>
          <p:spPr>
            <a:xfrm>
              <a:off x="6443640" y="2276640"/>
              <a:ext cx="1447920" cy="23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72720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2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